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4.png" ContentType="image/png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6.png" ContentType="image/png"/>
  <Override PartName="/ppt/media/image1.jpeg" ContentType="image/jpeg"/>
  <Override PartName="/ppt/media/image15.png" ContentType="image/png"/>
  <Override PartName="/ppt/media/image16.wmf" ContentType="image/x-wmf"/>
  <Override PartName="/ppt/media/image29.wmf" ContentType="image/x-wmf"/>
  <Override PartName="/ppt/media/image17.wmf" ContentType="image/x-wmf"/>
  <Override PartName="/ppt/media/image28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png" ContentType="image/png"/>
  <Override PartName="/ppt/media/image18.png" ContentType="image/png"/>
  <Override PartName="/ppt/media/image20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DCA7C-397F-4D9B-ADCB-637571AFA687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F4ED6-3B11-499B-BD4C-617A13AB15B7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A1FE3-C9DF-4163-98F9-7EAEB50518CE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9B04E-E6F5-4429-A2D4-5914F6E20774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2AA5A-4DEA-44EA-BE31-A406B1E91922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F0A40-930B-44A1-9F3D-1F1E518BAE49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82C6-D276-43D9-BB97-4DBB7FAA4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F2E4-835E-4E4F-BB84-EBE8D11C3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D47A-6259-4C68-9EB2-80E4E1C4B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D924-9B75-4411-B625-52EEE99CC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1FC70-AFCA-4C57-A126-2CE7ADD3D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B729A-1617-4ECD-838D-6E3215A2D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9BD1A-2F7B-4A7E-9564-BB90E5CC7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68BE4-8509-4D8A-A536-FE226CCE9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22F52-D840-4CE0-BE49-743958253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C48F8-37B4-4EDB-9104-ADE1A129D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92579-08BC-45A4-BDD5-3A846DD9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71DD-36DB-4723-9FC2-36E2856F7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36BD1-3B7E-4533-B52D-D5340988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02740-8981-4282-969A-B4FE3AF6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86486-B007-4C30-B345-36EB228AC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84147-C185-4614-80B5-AD7D6D9B9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2A49A-036C-4F06-AC06-B8037944E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60951-B5E1-4B44-AA3D-100A0808F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E9E1B-C414-4830-9252-03CA1C9BE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E7193-A2A6-4BA4-98E2-16B09326D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39ADF-5621-4922-AE25-F76E10BD8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BE34A-0AE0-44A1-A6ED-CB2D8BEDE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75F1-B74B-4FBE-8EB6-A78DC6A35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41284-348B-49E8-B366-8A87F5DDD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A3E38-BFCB-40FE-B294-65F14E48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EFF19-E7B1-439B-8D7A-3FDAC7EE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C6E33-01B4-4246-98E1-538F4019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27A33-DDFB-4461-85B0-61B38C2A3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F1965-A557-4FC3-BECD-CB98802C1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329C5-1665-46DA-B69E-E7755BCB9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35D7A-4786-474C-A8FF-FAD058965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0F79D-A774-45F3-9085-4C8C36E14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AF7E4-4EE2-45D7-9B43-36560639E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34F5-7738-4AA7-BCE4-589495C59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0D663-4F21-4054-AF4C-24C0CAA9E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95331-3822-4AD3-98CB-A2E0B224A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F5AC0-3C75-4409-AF09-42E3939CC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1A764-755A-4160-BB02-56C394BB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45B2C-9F00-4B41-A580-0F1249B3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A0464-50E6-4231-BC95-B6B8D815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15297-3F84-4A0C-BF27-7251BAEF0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91EB8-4E57-424E-A801-89F42B2A3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C631D-052A-43AC-B4A3-2E4C0F80B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88E4-EBE9-48D0-A785-1B577C0F2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027D-D732-4210-89BC-AF81C2612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524B-1AD5-40F3-8AFE-532DC913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0C4A-E4BE-4074-A4A7-7CCC7B85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0E05-3DE7-4262-8022-FB18B844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D3E09-24D1-42E2-9E70-A5058D5F0713}" type="datetime">
              <a:rPr b="0" lang="en-CA" sz="1200" spc="-1" strike="noStrike">
                <a:solidFill>
                  <a:srgbClr val="045c75"/>
                </a:solidFill>
                <a:latin typeface="Constantia"/>
              </a:rPr>
              <a:t>26-07-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45c75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DCDF3-45BB-44B0-A3B5-C752BCE29899}" type="slidenum">
              <a:rPr b="0" lang="en-C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48989-E3AF-4616-9041-2F4D17E1F0F9}" type="datetime">
              <a:rPr b="0" lang="en-CA" sz="1200" spc="-1" strike="noStrike">
                <a:solidFill>
                  <a:srgbClr val="d1eaee"/>
                </a:solidFill>
                <a:latin typeface="Constantia"/>
              </a:rPr>
              <a:t>26-07-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d1eaee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13D53-89FA-410B-8425-99B4C79D3A3E}" type="slidenum">
              <a:rPr b="0" lang="en-C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6CB67-ACEB-4080-9D62-72D7B0FB87E6}" type="datetime">
              <a:rPr b="0" lang="en-CA" sz="1200" spc="-1" strike="noStrike">
                <a:solidFill>
                  <a:srgbClr val="d1eaee"/>
                </a:solidFill>
                <a:latin typeface="Constantia"/>
              </a:rPr>
              <a:t>26-07-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d1eaee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03DE6-854B-4C40-9B73-017DE4A98C0B}" type="slidenum">
              <a:rPr b="0" lang="en-C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BD0C9-14E0-4B31-89AB-37E665A6D566}" type="datetime">
              <a:rPr b="0" lang="en-CA" sz="1200" spc="-1" strike="noStrike">
                <a:solidFill>
                  <a:srgbClr val="045c75"/>
                </a:solidFill>
                <a:latin typeface="Constantia"/>
              </a:rPr>
              <a:t>26-07-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45c75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F03D3-F05D-425D-9A53-C09E0DB222DB}" type="slidenum">
              <a:rPr b="0" lang="en-C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2114640" y="615960"/>
            <a:ext cx="3579840" cy="7063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26920" y="1557360"/>
            <a:ext cx="76327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Calibri"/>
              </a:rPr>
              <a:t>Assigned work: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g 74#5cd,6ad,7b,8-11,14,15,19,20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Calibri"/>
              </a:rPr>
              <a:t>Slope of a tangent to any x value for the curve f(x) is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Calibri"/>
              </a:rPr>
              <a:t>This is know as the “Derivative by First Principles”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Footer Placeholder 4"/>
          <p:cNvSpPr/>
          <p:nvPr/>
        </p:nvSpPr>
        <p:spPr>
          <a:xfrm>
            <a:off x="8028000" y="6237360"/>
            <a:ext cx="896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d1eaee"/>
                </a:solidFill>
                <a:latin typeface="Constantia"/>
              </a:rPr>
              <a:t>S. Ev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Object 9"/>
          <p:cNvGraphicFramePr/>
          <p:nvPr/>
        </p:nvGraphicFramePr>
        <p:xfrm>
          <a:off x="2268360" y="3141720"/>
          <a:ext cx="3063960" cy="974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6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68360" y="3141720"/>
                    <a:ext cx="3063960" cy="97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207" name="Straight Arrow Connector 7"/>
          <p:cNvCxnSpPr/>
          <p:nvPr/>
        </p:nvCxnSpPr>
        <p:spPr>
          <a:xfrm flipV="1">
            <a:off x="3130920" y="4220280"/>
            <a:ext cx="723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68360" y="691920"/>
            <a:ext cx="29512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4617b"/>
                </a:solidFill>
                <a:latin typeface="Calibri"/>
              </a:rPr>
              <a:t>Differentiability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5280" y="1412640"/>
            <a:ext cx="829152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0000"/>
                </a:solidFill>
                <a:uFillTx/>
                <a:latin typeface="Calibri"/>
              </a:rPr>
              <a:t>Ex. 1: 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For the following piecewise function determine if the function is differentiable at a) x=6   b) x= 4   c) x= 2 d) x=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Footer Placeholder 5"/>
          <p:cNvSpPr/>
          <p:nvPr/>
        </p:nvSpPr>
        <p:spPr>
          <a:xfrm>
            <a:off x="8101080" y="6237360"/>
            <a:ext cx="67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45c75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Object 6"/>
          <p:cNvGraphicFramePr/>
          <p:nvPr/>
        </p:nvGraphicFramePr>
        <p:xfrm>
          <a:off x="1403280" y="2349360"/>
          <a:ext cx="43880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349360"/>
                    <a:ext cx="43880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268360" y="691920"/>
            <a:ext cx="29512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4617b"/>
                </a:solidFill>
                <a:latin typeface="Calibri"/>
              </a:rPr>
              <a:t>Differentiability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250920" y="1412640"/>
            <a:ext cx="829152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Since for x=6.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Therefore,            is differentiable at x = 6.</a:t>
            </a: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Footer Placeholder 5"/>
          <p:cNvSpPr/>
          <p:nvPr/>
        </p:nvSpPr>
        <p:spPr>
          <a:xfrm>
            <a:off x="8101080" y="6237360"/>
            <a:ext cx="67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45c75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Object 3"/>
          <p:cNvGraphicFramePr/>
          <p:nvPr/>
        </p:nvGraphicFramePr>
        <p:xfrm>
          <a:off x="2050920" y="2349360"/>
          <a:ext cx="3726000" cy="158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2349360"/>
                    <a:ext cx="372600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Object 4"/>
          <p:cNvGraphicFramePr/>
          <p:nvPr/>
        </p:nvGraphicFramePr>
        <p:xfrm>
          <a:off x="2195640" y="4508640"/>
          <a:ext cx="850680" cy="50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95640" y="4508640"/>
                    <a:ext cx="85068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268360" y="691920"/>
            <a:ext cx="29512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4617b"/>
                </a:solidFill>
                <a:latin typeface="Calibri"/>
              </a:rPr>
              <a:t>Differentiability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5280" y="1412640"/>
            <a:ext cx="829152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b) At x = 4.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BUT         is NOT continuous at x = 4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Therefore,            is NOT differentiable at x = 4.</a:t>
            </a: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Footer Placeholder 5"/>
          <p:cNvSpPr/>
          <p:nvPr/>
        </p:nvSpPr>
        <p:spPr>
          <a:xfrm>
            <a:off x="8101080" y="6237360"/>
            <a:ext cx="67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45c75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6" name="Object 2"/>
          <p:cNvGraphicFramePr/>
          <p:nvPr/>
        </p:nvGraphicFramePr>
        <p:xfrm>
          <a:off x="1979640" y="1916280"/>
          <a:ext cx="3726000" cy="15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916280"/>
                    <a:ext cx="3726000" cy="15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Object 3"/>
          <p:cNvGraphicFramePr/>
          <p:nvPr/>
        </p:nvGraphicFramePr>
        <p:xfrm>
          <a:off x="2340000" y="4941720"/>
          <a:ext cx="851040" cy="50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941720"/>
                    <a:ext cx="85104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Object 4"/>
          <p:cNvGraphicFramePr/>
          <p:nvPr/>
        </p:nvGraphicFramePr>
        <p:xfrm>
          <a:off x="2771640" y="3573360"/>
          <a:ext cx="505080" cy="528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71640" y="3573360"/>
                    <a:ext cx="505080" cy="5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68360" y="691920"/>
            <a:ext cx="29512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4617b"/>
                </a:solidFill>
                <a:latin typeface="Calibri"/>
              </a:rPr>
              <a:t>Differentiability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95280" y="1412640"/>
            <a:ext cx="829152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c) At x = 2.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Therefore,            is NOT differentiable at x = 2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d) At x = 0</a:t>
            </a: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Therefore,            is NOT differentiable at x = 2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Footer Placeholder 5"/>
          <p:cNvSpPr/>
          <p:nvPr/>
        </p:nvSpPr>
        <p:spPr>
          <a:xfrm>
            <a:off x="8101080" y="6237360"/>
            <a:ext cx="67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45c75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Object 2"/>
          <p:cNvGraphicFramePr/>
          <p:nvPr/>
        </p:nvGraphicFramePr>
        <p:xfrm>
          <a:off x="2340000" y="1700280"/>
          <a:ext cx="313848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700280"/>
                    <a:ext cx="313848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Object 3"/>
          <p:cNvGraphicFramePr/>
          <p:nvPr/>
        </p:nvGraphicFramePr>
        <p:xfrm>
          <a:off x="2195640" y="2852640"/>
          <a:ext cx="850680" cy="50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95640" y="2852640"/>
                    <a:ext cx="85068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Object 5"/>
          <p:cNvGraphicFramePr/>
          <p:nvPr/>
        </p:nvGraphicFramePr>
        <p:xfrm>
          <a:off x="2556000" y="3933720"/>
          <a:ext cx="3560760" cy="574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0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56000" y="3933720"/>
                    <a:ext cx="356076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" name="Object 7"/>
          <p:cNvGraphicFramePr/>
          <p:nvPr/>
        </p:nvGraphicFramePr>
        <p:xfrm>
          <a:off x="2195640" y="5229360"/>
          <a:ext cx="850680" cy="503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2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95640" y="5229360"/>
                    <a:ext cx="85068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68360" y="691920"/>
            <a:ext cx="29512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4617b"/>
                </a:solidFill>
                <a:latin typeface="Calibri"/>
              </a:rPr>
              <a:t>Differentiability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95280" y="1412640"/>
            <a:ext cx="829152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Symbols for Derivative:</a:t>
            </a: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Footer Placeholder 5"/>
          <p:cNvSpPr/>
          <p:nvPr/>
        </p:nvSpPr>
        <p:spPr>
          <a:xfrm>
            <a:off x="8101080" y="6237360"/>
            <a:ext cx="67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45c75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Object 6"/>
          <p:cNvGraphicFramePr/>
          <p:nvPr/>
        </p:nvGraphicFramePr>
        <p:xfrm>
          <a:off x="1042920" y="2060640"/>
          <a:ext cx="5551560" cy="25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060640"/>
                    <a:ext cx="5551560" cy="25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68360" y="691920"/>
            <a:ext cx="29512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4617b"/>
                </a:solidFill>
                <a:latin typeface="Calibri"/>
              </a:rPr>
              <a:t>Differentiability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24000" y="1412640"/>
            <a:ext cx="829152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Ex 1: Find the equation of the normal to the curve 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Footer Placeholder 5"/>
          <p:cNvSpPr/>
          <p:nvPr/>
        </p:nvSpPr>
        <p:spPr>
          <a:xfrm>
            <a:off x="8101080" y="6237360"/>
            <a:ext cx="67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45c75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Object 6"/>
          <p:cNvGraphicFramePr/>
          <p:nvPr/>
        </p:nvGraphicFramePr>
        <p:xfrm>
          <a:off x="1116000" y="1916280"/>
          <a:ext cx="3527280" cy="55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916280"/>
                    <a:ext cx="352728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TextBox 6"/>
          <p:cNvSpPr/>
          <p:nvPr/>
        </p:nvSpPr>
        <p:spPr>
          <a:xfrm>
            <a:off x="1332000" y="3141720"/>
            <a:ext cx="3887640" cy="31114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Note: An linear equation needs a slope and a po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o get the slope take the derivati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o get a point find f(-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normal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is a line at a point on f(x) perpendicular to the tangent line at that po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ee solution next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Straight Arrow Connector 8"/>
          <p:cNvCxnSpPr/>
          <p:nvPr/>
        </p:nvCxnSpPr>
        <p:spPr>
          <a:xfrm flipV="1">
            <a:off x="2770560" y="2638080"/>
            <a:ext cx="2520" cy="5040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68360" y="691920"/>
            <a:ext cx="29512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4617b"/>
                </a:solidFill>
                <a:latin typeface="Calibri"/>
              </a:rPr>
              <a:t>Differentiability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24000" y="1412640"/>
            <a:ext cx="829152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Footer Placeholder 5"/>
          <p:cNvSpPr/>
          <p:nvPr/>
        </p:nvSpPr>
        <p:spPr>
          <a:xfrm>
            <a:off x="8101080" y="6237360"/>
            <a:ext cx="67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45c75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Object 6"/>
          <p:cNvGraphicFramePr/>
          <p:nvPr/>
        </p:nvGraphicFramePr>
        <p:xfrm>
          <a:off x="463680" y="1682640"/>
          <a:ext cx="4216320" cy="453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682640"/>
                    <a:ext cx="421632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Object 3"/>
          <p:cNvGraphicFramePr/>
          <p:nvPr/>
        </p:nvGraphicFramePr>
        <p:xfrm>
          <a:off x="539640" y="1268280"/>
          <a:ext cx="2300400" cy="3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1268280"/>
                    <a:ext cx="23004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Object 4"/>
          <p:cNvGraphicFramePr/>
          <p:nvPr/>
        </p:nvGraphicFramePr>
        <p:xfrm>
          <a:off x="5148360" y="1916280"/>
          <a:ext cx="1042920" cy="1064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48360" y="1916280"/>
                    <a:ext cx="1042920" cy="106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Object 5"/>
          <p:cNvGraphicFramePr/>
          <p:nvPr/>
        </p:nvGraphicFramePr>
        <p:xfrm>
          <a:off x="3708360" y="4797360"/>
          <a:ext cx="5121360" cy="1011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0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08360" y="4797360"/>
                    <a:ext cx="512136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68360" y="691920"/>
            <a:ext cx="29512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4617b"/>
                </a:solidFill>
                <a:latin typeface="Calibri"/>
              </a:rPr>
              <a:t>Differentiability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24000" y="1412640"/>
            <a:ext cx="829152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Footer Placeholder 5"/>
          <p:cNvSpPr/>
          <p:nvPr/>
        </p:nvSpPr>
        <p:spPr>
          <a:xfrm>
            <a:off x="8101080" y="6237360"/>
            <a:ext cx="67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45c75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8"/>
          <p:cNvSpPr/>
          <p:nvPr/>
        </p:nvSpPr>
        <p:spPr>
          <a:xfrm>
            <a:off x="324000" y="1413000"/>
            <a:ext cx="8135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Graphs of Derivatives: The graph of a derivative is the graph of the changing slopes of the tang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Ex 2: Given the following graphs sketch the graph of the derivati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a)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Chart 11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273708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68360" y="691920"/>
            <a:ext cx="29512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4617b"/>
                </a:solidFill>
                <a:latin typeface="Calibri"/>
              </a:rPr>
              <a:t>Differentiability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24000" y="1412640"/>
            <a:ext cx="829152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Footer Placeholder 5"/>
          <p:cNvSpPr/>
          <p:nvPr/>
        </p:nvSpPr>
        <p:spPr>
          <a:xfrm>
            <a:off x="8101080" y="6237360"/>
            <a:ext cx="67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45c75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8"/>
          <p:cNvSpPr/>
          <p:nvPr/>
        </p:nvSpPr>
        <p:spPr>
          <a:xfrm>
            <a:off x="324000" y="1413000"/>
            <a:ext cx="813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b)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Chart 6" descr=""/>
          <p:cNvPicPr/>
          <p:nvPr/>
        </p:nvPicPr>
        <p:blipFill>
          <a:blip r:embed="rId1"/>
          <a:stretch/>
        </p:blipFill>
        <p:spPr>
          <a:xfrm>
            <a:off x="1835280" y="1916280"/>
            <a:ext cx="223200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itle 1" descr=""/>
          <p:cNvPicPr/>
          <p:nvPr/>
        </p:nvPicPr>
        <p:blipFill>
          <a:blip r:embed="rId1"/>
          <a:stretch/>
        </p:blipFill>
        <p:spPr>
          <a:xfrm>
            <a:off x="2114640" y="615960"/>
            <a:ext cx="3579840" cy="70632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826920" y="1557360"/>
            <a:ext cx="68011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marL="353880" indent="-353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ffffff"/>
                </a:solidFill>
                <a:latin typeface="Calibri"/>
              </a:rPr>
              <a:t>When does a derivative exist?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53880" indent="-353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600" spc="-1" strike="noStrike">
                <a:solidFill>
                  <a:srgbClr val="ffffff"/>
                </a:solidFill>
                <a:latin typeface="Calibri"/>
              </a:rPr>
              <a:t>For a function,           to be Differentiable at x=c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CA" sz="2400" spc="-1" strike="noStrike">
                <a:solidFill>
                  <a:srgbClr val="ffffff"/>
                </a:solidFill>
                <a:latin typeface="Calibri"/>
              </a:rPr>
              <a:t>Left hand limit = Right hand limit of BOTH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Calibri"/>
              </a:rPr>
              <a:t>AND the function MUST be continuous at x = c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53880" indent="-353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53880" indent="-353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600" spc="-1" strike="noStrike">
                <a:solidFill>
                  <a:srgbClr val="ffffff"/>
                </a:solidFill>
                <a:latin typeface="Calibri"/>
              </a:rPr>
              <a:t>Differentiability Implies Continuit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Calibri"/>
              </a:rPr>
              <a:t>If a function is differentiable at x=c then it MUST be continuous at x=c BUT if a function is continuous it does not have to be differentiable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Footer Placeholder 4"/>
          <p:cNvSpPr/>
          <p:nvPr/>
        </p:nvSpPr>
        <p:spPr>
          <a:xfrm>
            <a:off x="8028000" y="6237360"/>
            <a:ext cx="896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d1eaee"/>
                </a:solidFill>
                <a:latin typeface="Constantia"/>
              </a:rPr>
              <a:t>S. Ev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Object 8"/>
          <p:cNvGraphicFramePr/>
          <p:nvPr/>
        </p:nvGraphicFramePr>
        <p:xfrm>
          <a:off x="2843280" y="2565360"/>
          <a:ext cx="608040" cy="35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43280" y="2565360"/>
                    <a:ext cx="608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9"/>
          <p:cNvGraphicFramePr/>
          <p:nvPr/>
        </p:nvGraphicFramePr>
        <p:xfrm>
          <a:off x="1258920" y="3284640"/>
          <a:ext cx="2233440" cy="458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7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58920" y="3284640"/>
                    <a:ext cx="223344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68360" y="691920"/>
            <a:ext cx="29512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4617b"/>
                </a:solidFill>
                <a:latin typeface="Calibri"/>
              </a:rPr>
              <a:t>Differentiability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95280" y="1412640"/>
            <a:ext cx="829152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The following are NOT differentiable at x = 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CUSP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        VERTICAL TANGENT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DISCONTINUOUS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Footer Placeholder 5"/>
          <p:cNvSpPr/>
          <p:nvPr/>
        </p:nvSpPr>
        <p:spPr>
          <a:xfrm>
            <a:off x="8101080" y="6237360"/>
            <a:ext cx="67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45c75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1" name="Straight Arrow Connector 7"/>
          <p:cNvCxnSpPr/>
          <p:nvPr/>
        </p:nvCxnSpPr>
        <p:spPr>
          <a:xfrm flipV="1">
            <a:off x="898560" y="2133360"/>
            <a:ext cx="2160" cy="19454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52" name="Straight Arrow Connector 9"/>
          <p:cNvCxnSpPr/>
          <p:nvPr/>
        </p:nvCxnSpPr>
        <p:spPr>
          <a:xfrm>
            <a:off x="323640" y="3429000"/>
            <a:ext cx="194508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53" name="Straight Connector 11"/>
          <p:cNvSpPr/>
          <p:nvPr/>
        </p:nvSpPr>
        <p:spPr>
          <a:xfrm>
            <a:off x="1332000" y="2276640"/>
            <a:ext cx="0" cy="1728720"/>
          </a:xfrm>
          <a:prstGeom prst="line">
            <a:avLst/>
          </a:prstGeom>
          <a:ln w="9360">
            <a:solidFill>
              <a:srgbClr val="06509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4" name="Straight Arrow Connector 16"/>
          <p:cNvCxnSpPr/>
          <p:nvPr/>
        </p:nvCxnSpPr>
        <p:spPr>
          <a:xfrm flipV="1">
            <a:off x="3706920" y="2204640"/>
            <a:ext cx="2160" cy="19454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55" name="Straight Arrow Connector 17"/>
          <p:cNvCxnSpPr/>
          <p:nvPr/>
        </p:nvCxnSpPr>
        <p:spPr>
          <a:xfrm>
            <a:off x="3132000" y="3499920"/>
            <a:ext cx="1945440" cy="25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56" name="Straight Connector 18"/>
          <p:cNvSpPr/>
          <p:nvPr/>
        </p:nvSpPr>
        <p:spPr>
          <a:xfrm>
            <a:off x="4140360" y="2349360"/>
            <a:ext cx="0" cy="1727280"/>
          </a:xfrm>
          <a:prstGeom prst="line">
            <a:avLst/>
          </a:prstGeom>
          <a:ln w="9360">
            <a:solidFill>
              <a:srgbClr val="06509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7" name="Straight Arrow Connector 19"/>
          <p:cNvCxnSpPr/>
          <p:nvPr/>
        </p:nvCxnSpPr>
        <p:spPr>
          <a:xfrm flipV="1">
            <a:off x="6369480" y="2204640"/>
            <a:ext cx="2520" cy="19454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58" name="Straight Arrow Connector 20"/>
          <p:cNvCxnSpPr/>
          <p:nvPr/>
        </p:nvCxnSpPr>
        <p:spPr>
          <a:xfrm>
            <a:off x="5796000" y="3499920"/>
            <a:ext cx="1945440" cy="25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59" name="Straight Connector 21"/>
          <p:cNvSpPr/>
          <p:nvPr/>
        </p:nvSpPr>
        <p:spPr>
          <a:xfrm>
            <a:off x="6804000" y="2349360"/>
            <a:ext cx="0" cy="1727280"/>
          </a:xfrm>
          <a:prstGeom prst="line">
            <a:avLst/>
          </a:prstGeom>
          <a:ln w="9360">
            <a:solidFill>
              <a:srgbClr val="06509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68360" y="691920"/>
            <a:ext cx="295128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4617b"/>
                </a:solidFill>
                <a:latin typeface="Calibri"/>
              </a:rPr>
              <a:t>Differentiability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24000" y="1267920"/>
            <a:ext cx="84960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Mr.Function knew that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      so he took the  slopes from the s-t graph to get a v-t graph and then the slopes from the v-t graph to get the a-t graph. Mr. Calculus said “there is a problem with Mr. Function’s graphs”. Explain in terms of differentiability what the problem i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Footer Placeholder 5"/>
          <p:cNvSpPr/>
          <p:nvPr/>
        </p:nvSpPr>
        <p:spPr>
          <a:xfrm>
            <a:off x="8101080" y="6237360"/>
            <a:ext cx="67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45c75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14" descr=""/>
          <p:cNvPicPr/>
          <p:nvPr/>
        </p:nvPicPr>
        <p:blipFill>
          <a:blip r:embed="rId1"/>
          <a:stretch/>
        </p:blipFill>
        <p:spPr>
          <a:xfrm>
            <a:off x="539640" y="3141720"/>
            <a:ext cx="2448000" cy="22320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5" descr=""/>
          <p:cNvPicPr/>
          <p:nvPr/>
        </p:nvPicPr>
        <p:blipFill>
          <a:blip r:embed="rId2"/>
          <a:stretch/>
        </p:blipFill>
        <p:spPr>
          <a:xfrm>
            <a:off x="3348000" y="3213000"/>
            <a:ext cx="2448000" cy="2232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2" descr=""/>
          <p:cNvPicPr/>
          <p:nvPr/>
        </p:nvPicPr>
        <p:blipFill>
          <a:blip r:embed="rId3"/>
          <a:stretch/>
        </p:blipFill>
        <p:spPr>
          <a:xfrm>
            <a:off x="6084720" y="3141720"/>
            <a:ext cx="2519640" cy="2519280"/>
          </a:xfrm>
          <a:prstGeom prst="rect">
            <a:avLst/>
          </a:prstGeom>
          <a:ln w="0">
            <a:noFill/>
          </a:ln>
        </p:spPr>
      </p:pic>
      <p:sp>
        <p:nvSpPr>
          <p:cNvPr id="266" name="TextBox 23"/>
          <p:cNvSpPr/>
          <p:nvPr/>
        </p:nvSpPr>
        <p:spPr>
          <a:xfrm>
            <a:off x="1187280" y="5877000"/>
            <a:ext cx="136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osition Time Graph s-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24"/>
          <p:cNvSpPr/>
          <p:nvPr/>
        </p:nvSpPr>
        <p:spPr>
          <a:xfrm>
            <a:off x="4067280" y="5877000"/>
            <a:ext cx="115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Velocity Time Graph v-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25"/>
          <p:cNvSpPr/>
          <p:nvPr/>
        </p:nvSpPr>
        <p:spPr>
          <a:xfrm>
            <a:off x="6732720" y="5950080"/>
            <a:ext cx="208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cceleration Time Graph a-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Object 2"/>
          <p:cNvGraphicFramePr/>
          <p:nvPr/>
        </p:nvGraphicFramePr>
        <p:xfrm>
          <a:off x="2771640" y="1268280"/>
          <a:ext cx="3384720" cy="411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0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71640" y="1268280"/>
                    <a:ext cx="33847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17:07:38Z</dcterms:created>
  <dc:creator>sandy</dc:creator>
  <dc:description/>
  <dc:language>en-US</dc:language>
  <cp:lastModifiedBy>sandy</cp:lastModifiedBy>
  <dcterms:modified xsi:type="dcterms:W3CDTF">2011-07-21T17:30:37Z</dcterms:modified>
  <cp:revision>181</cp:revision>
  <dc:subject/>
  <dc:title>2.2 Derivatives of Polynomial Functions</dc:title>
</cp:coreProperties>
</file>